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gif" ContentType="image/gif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3D63-9805-487E-B300-BC1BDCAFC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4480-7147-4635-AA47-1FF49777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3607-15E3-4869-B227-3F941E9F8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44EF-DBE9-4105-937B-013F2A254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89D1-E8F8-4F76-B994-EBFFDC84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9686-7AFD-4681-AE6D-C3E08E18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2C6B-4BAA-40F8-B6D9-19A46499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EB5C-F6C2-4DE6-92EA-5A0F2512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3688-B670-4EB0-9D4B-2070DD64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E317-06E2-4E08-A493-410E32DE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12B6-4DAB-4A05-B774-6524A207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EF0B-EF5A-45C7-B146-1AEC1437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A6FB-CDAD-401F-B5E4-CEA52E155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33720" y="380880"/>
            <a:ext cx="47098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Science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5181480"/>
            <a:ext cx="8077320" cy="12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The parts of a flow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3" name="j0237222" descr=""/>
          <p:cNvPicPr/>
          <p:nvPr/>
        </p:nvPicPr>
        <p:blipFill>
          <a:blip r:embed="rId1"/>
          <a:stretch/>
        </p:blipFill>
        <p:spPr>
          <a:xfrm>
            <a:off x="3200400" y="2971800"/>
            <a:ext cx="2652840" cy="212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209680" y="457200"/>
            <a:ext cx="4724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All flowers hav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male and femal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part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90720" y="3809880"/>
            <a:ext cx="2133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arpel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90720" y="5105520"/>
            <a:ext cx="2133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tamen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3581280"/>
            <a:ext cx="466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the name for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EMA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art of the fl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5181480"/>
            <a:ext cx="451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the name for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art of the fl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j0250867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1968480" cy="1546200"/>
          </a:xfrm>
          <a:prstGeom prst="rect">
            <a:avLst/>
          </a:prstGeom>
          <a:ln w="0">
            <a:noFill/>
          </a:ln>
        </p:spPr>
      </p:pic>
      <p:pic>
        <p:nvPicPr>
          <p:cNvPr id="103" name="j0305499" descr=""/>
          <p:cNvPicPr/>
          <p:nvPr/>
        </p:nvPicPr>
        <p:blipFill>
          <a:blip r:embed="rId2"/>
          <a:stretch/>
        </p:blipFill>
        <p:spPr>
          <a:xfrm>
            <a:off x="7238880" y="1295280"/>
            <a:ext cx="136044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8080" y="457200"/>
            <a:ext cx="723924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Look closely at you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flower as we name th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different part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5" name="Eyes-01" descr=""/>
          <p:cNvPicPr/>
          <p:nvPr/>
        </p:nvPicPr>
        <p:blipFill>
          <a:blip r:embed="rId1"/>
          <a:stretch/>
        </p:blipFill>
        <p:spPr>
          <a:xfrm>
            <a:off x="2895480" y="4952880"/>
            <a:ext cx="342900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990720" y="228600"/>
            <a:ext cx="380988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The carpe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5214600" y="561960"/>
            <a:ext cx="26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female p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flower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5257800" cy="48369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6705720" y="2133720"/>
            <a:ext cx="2057400" cy="86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stigma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781680" y="3581280"/>
            <a:ext cx="17528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styl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705720" y="5105520"/>
            <a:ext cx="18288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ovary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114800" y="2514600"/>
            <a:ext cx="236232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3962520" y="3504960"/>
            <a:ext cx="274320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3962520" y="4647960"/>
            <a:ext cx="259056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990720" y="228600"/>
            <a:ext cx="411480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The stame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5490360" y="685800"/>
            <a:ext cx="22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male p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flower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5257800" cy="48369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6705720" y="2133720"/>
            <a:ext cx="2057400" cy="86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anth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781680" y="3581280"/>
            <a:ext cx="21337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filament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705720" y="5105520"/>
            <a:ext cx="18288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polle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876920" y="2666880"/>
            <a:ext cx="167616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647960" y="3809520"/>
            <a:ext cx="20574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2285640" y="3123720"/>
            <a:ext cx="4267080" cy="2210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228600"/>
            <a:ext cx="8001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The parts of a flow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25" name="flower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029200" cy="4627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5760" y="2057400"/>
            <a:ext cx="14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ig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8240" y="3581280"/>
            <a:ext cx="106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7560" y="5029200"/>
            <a:ext cx="12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v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11960" y="3505320"/>
            <a:ext cx="145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85880" y="4952880"/>
            <a:ext cx="176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la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43280" y="1905120"/>
            <a:ext cx="13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2362320"/>
            <a:ext cx="2286000" cy="75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600200" y="3276360"/>
            <a:ext cx="25909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676520" y="4267080"/>
            <a:ext cx="2514600" cy="1067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333760" y="2286000"/>
            <a:ext cx="190476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5943600" y="3200400"/>
            <a:ext cx="12952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5410080" y="4038480"/>
            <a:ext cx="152424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371600" y="380880"/>
            <a:ext cx="63244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Draw a detailed diagram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of your flow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414720" y="2514600"/>
            <a:ext cx="85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bel the following parts on your diagra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3352680"/>
            <a:ext cx="21812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the carpel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791320" y="3276720"/>
            <a:ext cx="24382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the stamen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1031760" y="4191120"/>
            <a:ext cx="1809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tig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ty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v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46840" y="4191120"/>
            <a:ext cx="2158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la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ll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j0236278" descr=""/>
          <p:cNvPicPr/>
          <p:nvPr/>
        </p:nvPicPr>
        <p:blipFill>
          <a:blip r:embed="rId1"/>
          <a:stretch/>
        </p:blipFill>
        <p:spPr>
          <a:xfrm>
            <a:off x="3429000" y="4114800"/>
            <a:ext cx="198108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0880" y="609480"/>
            <a:ext cx="8229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hat have we learnt today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1127160" y="2174760"/>
            <a:ext cx="527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320040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know that plants produce flowers which have male and female orga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4648320"/>
            <a:ext cx="815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know that seeds are formed when pollen from the male organ fertilises the female org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82880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can label the parts of a plant and flo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762120" y="228600"/>
            <a:ext cx="4190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Next week..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541008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will also find out that insects pollinate some flowers and discover how this is don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13716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will find out more about how flowering plants reprodu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j0288857" descr=""/>
          <p:cNvPicPr/>
          <p:nvPr/>
        </p:nvPicPr>
        <p:blipFill>
          <a:blip r:embed="rId1"/>
          <a:stretch/>
        </p:blipFill>
        <p:spPr>
          <a:xfrm>
            <a:off x="3048120" y="2590920"/>
            <a:ext cx="3047760" cy="25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80880" y="609480"/>
            <a:ext cx="8229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hat will we learn today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5" name=""/>
          <p:cNvSpPr/>
          <p:nvPr/>
        </p:nvSpPr>
        <p:spPr>
          <a:xfrm>
            <a:off x="1127160" y="2174760"/>
            <a:ext cx="527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2004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will learn that plants produce flowers which have male and female orga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4938840"/>
            <a:ext cx="815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will learn that seeds are formed when pollen from the male organ fertilises the female org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82880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will learn to label the parts of a plant and flo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609480"/>
            <a:ext cx="8353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There are four main parts of a plant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828800"/>
            <a:ext cx="62578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Can you guess what they are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2342160" y="2743200"/>
            <a:ext cx="9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13160" y="293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10560" y="350532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. 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83920" y="4267080"/>
            <a:ext cx="92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.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97600" y="502920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. 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15440" y="2743200"/>
            <a:ext cx="11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o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88160" y="3505320"/>
            <a:ext cx="103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80960" y="4267080"/>
            <a:ext cx="14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a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75560" y="5029200"/>
            <a:ext cx="13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NA00713_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933960" cy="4572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05280" y="228600"/>
            <a:ext cx="488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ook at this pictu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21560" y="6019920"/>
            <a:ext cx="70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you label the parts of the pla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62120" y="3809880"/>
            <a:ext cx="16761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root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400800" y="3429000"/>
            <a:ext cx="1676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stem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0880" y="1447920"/>
            <a:ext cx="190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leave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400800" y="1219320"/>
            <a:ext cx="2057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flow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4572000"/>
            <a:ext cx="144792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876920" y="3809880"/>
            <a:ext cx="13716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38280" y="2362320"/>
            <a:ext cx="76212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028840" y="175248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533520" y="685800"/>
            <a:ext cx="7715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hat is the function of the root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2" name="NA00713_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952880" cy="4191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304920" y="3657600"/>
            <a:ext cx="1676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root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4648320"/>
            <a:ext cx="12193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251460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roots absorb water from the soi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33520" y="685800"/>
            <a:ext cx="7715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hat is the function of the stem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7" name="NA00713_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952880" cy="4191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228600" y="3733920"/>
            <a:ext cx="1676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stem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4267080"/>
            <a:ext cx="533520" cy="152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228600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stem helps to support the pla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685800"/>
            <a:ext cx="7715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hat is the function of the leaf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2" name="NA00713_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952880" cy="4191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304920" y="3962520"/>
            <a:ext cx="1676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leaf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143000" y="3504960"/>
            <a:ext cx="91440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76920" y="2362320"/>
            <a:ext cx="3429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leaves use sunlight to provide the plant with energ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33520" y="685800"/>
            <a:ext cx="7715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hat is the function of the flower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7" name="NA00713_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952880" cy="4191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3962520"/>
            <a:ext cx="1676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flow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523880" y="2590560"/>
            <a:ext cx="1143000" cy="1447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48320" y="251460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flower helps the plant to reprodu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33520" y="609480"/>
            <a:ext cx="8001000" cy="14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Look carefully at your flower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ith your partn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2" name="NA00488_" descr=""/>
          <p:cNvPicPr/>
          <p:nvPr/>
        </p:nvPicPr>
        <p:blipFill>
          <a:blip r:embed="rId1"/>
          <a:stretch/>
        </p:blipFill>
        <p:spPr>
          <a:xfrm>
            <a:off x="2819520" y="2362320"/>
            <a:ext cx="3402000" cy="3809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28600" y="2590920"/>
            <a:ext cx="230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does it smell li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24480" y="2666880"/>
            <a:ext cx="260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can you s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E02844_" descr=""/>
          <p:cNvPicPr/>
          <p:nvPr/>
        </p:nvPicPr>
        <p:blipFill>
          <a:blip r:embed="rId2"/>
          <a:stretch/>
        </p:blipFill>
        <p:spPr>
          <a:xfrm>
            <a:off x="304920" y="4191120"/>
            <a:ext cx="2211120" cy="2095560"/>
          </a:xfrm>
          <a:prstGeom prst="rect">
            <a:avLst/>
          </a:prstGeom>
          <a:ln w="0">
            <a:noFill/>
          </a:ln>
        </p:spPr>
      </p:pic>
      <p:pic>
        <p:nvPicPr>
          <p:cNvPr id="96" name="j0299555" descr=""/>
          <p:cNvPicPr/>
          <p:nvPr/>
        </p:nvPicPr>
        <p:blipFill>
          <a:blip r:embed="rId3"/>
          <a:stretch/>
        </p:blipFill>
        <p:spPr>
          <a:xfrm>
            <a:off x="6248520" y="3809880"/>
            <a:ext cx="233676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6T09:58:16Z</dcterms:created>
  <dc:creator>Tim</dc:creator>
  <dc:description/>
  <dc:language>en-US</dc:language>
  <cp:lastModifiedBy>d f baker</cp:lastModifiedBy>
  <dcterms:modified xsi:type="dcterms:W3CDTF">2002-11-24T13:23:28Z</dcterms:modified>
  <cp:revision>15</cp:revision>
  <dc:subject/>
  <dc:title>PowerPoint Presentation</dc:title>
</cp:coreProperties>
</file>